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27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png" ContentType="image/png"/>
  <Override PartName="/ppt/media/image8.png" ContentType="image/png"/>
  <Override PartName="/ppt/media/image12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.jpeg" ContentType="image/jpeg"/>
  <Override PartName="/ppt/media/image7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A89EB-204E-4E7D-B1FE-32A9C16B33D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DF2AE-E690-4017-97D7-9142407A9B1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D964C-C124-4952-AF85-F70EB087ED5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E2508-A391-4724-B819-C7E2405E3AC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E754D-9D4F-4818-900E-CC31370C1CC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CD9AF-E020-4D2D-BF83-2CE94618A64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E2848-E015-4E72-80F0-3176509CFB2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5EDBC-8C3E-456A-9F9C-2070D44EA9F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EF471-6ADC-466C-9C4D-84A18D0D6D3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C4652-7E9F-4A29-A73C-B724F30A966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35FB9-95F8-41A4-997C-2B0716006D4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67CAD-BB65-4203-8C22-B915FBF68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20E3D-FE74-403D-B6AD-C809CC412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DE68E-C351-4C0A-A901-8A1114473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2533F-08AA-4205-9C12-CCDD8AA30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21FB0-57D5-45B8-AE8E-837FC48F9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171C0-2D60-4ECE-B18C-57736922D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8A66E-4A2A-4109-B66A-3B1069209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FB766-C390-4E58-8A5B-7E9F83142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67DB6-7FF7-4286-8E41-29DA78147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FB971-1AE1-4E1D-B63E-BC5FFC511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C4772-0A27-488A-9AD4-E3493CD79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16C97-D9A4-4CE2-BB96-C527778A0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B5790-E142-40B4-9EBF-3C0410C82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1F2A3-804F-4BB8-905A-481E6053E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66E25-C049-4BD8-B831-40F6B4774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D0CEA-2F24-4E49-B931-7C45631CA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B7F39-7782-43AE-BFD0-9C0512693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8CD1F9-463F-4820-AEBD-20F80EC91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B31FAF-B536-4CB1-8977-C86FF5814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02F569-C87D-47B3-A3FB-36E11C4CB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712ADF-1A1A-4C24-9CB8-0F42A9EB7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CB9F0B-8CF0-4774-927E-2F7E3408A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F9020-5920-49DA-AD2A-B8064C683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0533BF-5F6F-46BB-B93D-894501DB8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4F6666-7B16-4EDF-8527-A8EA1A8A5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636C3A-4E0E-4111-9A2D-9E151CB11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C89DEC-6B1E-4A80-8844-49D9D36D0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A47488-9F2B-4EF0-972C-388C3123C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FD1DBD-381E-41E4-93FA-4A2B1C2A7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4051DB-EEF9-4032-86D6-0239526CA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640AE6-A7EB-42E8-9132-4DBD3B726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8EDA99-2567-4F36-9671-EF6BDAC65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7A3223-BEB9-40B8-B11F-F96C92B1D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27C03-AA98-471F-9FC0-73194F24C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6E75FD-84FD-4ECB-8208-F41B1783E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66DBE1-BE7D-4073-83AF-095C80276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7C04AC-8FF6-4D60-98C1-80D72CC87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C883C1-09D8-4C75-BA39-32EF8FE3C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0F421A-1F1A-4969-B444-65EFB8FB4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8D526A-4D51-4A01-BDC4-86B7E7096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6A955B-B053-438E-9FFA-4049F51A9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4E9DF8-A447-4EE0-B915-69FE2CE26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F7CD7E-F93A-4A8D-B846-6240001C5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4B2630-65D2-49FD-A403-11E18E688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CFC9C-8958-432C-948C-4B175D2A6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BE36B0-A36F-47B1-BE34-3646D1CCD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4363DD-DCA1-4CD6-AB89-E6CBCF427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BF1F7A-BAA5-4354-B491-53080A74D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BE9E91-9FBB-4DB6-95FE-1D9F7D584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E21684-F7E8-4CFC-9D07-7D5648CC4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5ED29B-5BBA-4E1D-9191-9965BA976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B69C58-2D8C-457A-BF52-79D507E73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FF798D-3741-4330-9B55-6710374A4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01C304-ADF8-449D-945B-398FAB1C2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7A2060-4A6D-4150-9C74-26A174407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D8CEE-6295-49FE-84DE-025262F8A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3B60F5-7A2D-43BC-A48D-4375CC34A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B1F2D-5F20-4DF0-A986-09B3E4063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465F2-FEBF-4B04-B11E-C4766CB53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CD1F6-E23E-46B2-B3B3-E993D5119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ACB2B-A78F-44FA-80E5-0CD6DCEEAC04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Рисунок 9" descr="7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83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53383-6930-4A4F-B6DF-906E9A539374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Рисунок 9" descr="8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83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20DA6-18FD-4E9B-ACB5-A7C889554FD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Рисунок 9" descr="7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83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75738-92D0-4F82-AF4E-B5602BF30CA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Рисунок 9" descr="8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83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Рисунок 9" descr="7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8356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2" descr=""/>
          <p:cNvPicPr/>
          <p:nvPr/>
        </p:nvPicPr>
        <p:blipFill>
          <a:blip r:embed="rId3"/>
          <a:stretch/>
        </p:blipFill>
        <p:spPr>
          <a:xfrm>
            <a:off x="262080" y="484200"/>
            <a:ext cx="3144600" cy="5710320"/>
          </a:xfrm>
          <a:prstGeom prst="rect">
            <a:avLst/>
          </a:prstGeom>
          <a:ln w="9360">
            <a:solidFill>
              <a:srgbClr val="f4ee00"/>
            </a:solidFill>
            <a:miter/>
          </a:ln>
        </p:spPr>
      </p:pic>
      <p:sp>
        <p:nvSpPr>
          <p:cNvPr id="170" name="Прямая соединительная линия 8"/>
          <p:cNvSpPr/>
          <p:nvPr/>
        </p:nvSpPr>
        <p:spPr>
          <a:xfrm>
            <a:off x="3541680" y="1496880"/>
            <a:ext cx="44370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Прямая соединительная линия 9"/>
          <p:cNvSpPr/>
          <p:nvPr/>
        </p:nvSpPr>
        <p:spPr>
          <a:xfrm flipV="1">
            <a:off x="3505320" y="2384280"/>
            <a:ext cx="4464000" cy="36720"/>
          </a:xfrm>
          <a:prstGeom prst="line">
            <a:avLst/>
          </a:prstGeom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Прямая соединительная линия 10"/>
          <p:cNvSpPr/>
          <p:nvPr/>
        </p:nvSpPr>
        <p:spPr>
          <a:xfrm flipV="1">
            <a:off x="3532320" y="3621240"/>
            <a:ext cx="4456080" cy="936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Прямая соединительная линия 11"/>
          <p:cNvSpPr/>
          <p:nvPr/>
        </p:nvSpPr>
        <p:spPr>
          <a:xfrm>
            <a:off x="3541680" y="5270400"/>
            <a:ext cx="4446720" cy="0"/>
          </a:xfrm>
          <a:prstGeom prst="line">
            <a:avLst/>
          </a:prstGeom>
          <a:ln w="2844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Прямая соединительная линия 12"/>
          <p:cNvSpPr/>
          <p:nvPr/>
        </p:nvSpPr>
        <p:spPr>
          <a:xfrm flipV="1">
            <a:off x="3522600" y="6284880"/>
            <a:ext cx="4456080" cy="7920"/>
          </a:xfrm>
          <a:prstGeom prst="line">
            <a:avLst/>
          </a:prstGeom>
          <a:ln w="28440">
            <a:solidFill>
              <a:srgbClr val="9daa2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91033-0622-4ACF-B084-E577998CD4A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708360" y="549000"/>
            <a:ext cx="5432400" cy="417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Bahnschrift Light Condensed"/>
              </a:rPr>
              <a:t>Роль информационно-библиотечного центра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Bahnschrift Light Condensed"/>
              </a:rPr>
              <a:t>в повышении качества образова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268000" y="-360"/>
            <a:ext cx="6875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Bahnschrift Light Condensed"/>
                <a:ea typeface="Calibri"/>
              </a:rPr>
              <a:t>Факторы, влияющие на качество преподавания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Схема 2" descr=""/>
          <p:cNvPicPr/>
          <p:nvPr/>
        </p:nvPicPr>
        <p:blipFill>
          <a:blip r:embed="rId1"/>
          <a:stretch/>
        </p:blipFill>
        <p:spPr>
          <a:xfrm>
            <a:off x="3187800" y="981000"/>
            <a:ext cx="5949720" cy="3097440"/>
          </a:xfrm>
          <a:prstGeom prst="rect">
            <a:avLst/>
          </a:prstGeom>
          <a:ln w="0">
            <a:noFill/>
          </a:ln>
        </p:spPr>
      </p:pic>
      <p:pic>
        <p:nvPicPr>
          <p:cNvPr id="242" name="Схема 6" descr=""/>
          <p:cNvPicPr/>
          <p:nvPr/>
        </p:nvPicPr>
        <p:blipFill>
          <a:blip r:embed="rId2"/>
          <a:stretch/>
        </p:blipFill>
        <p:spPr>
          <a:xfrm>
            <a:off x="3187800" y="4224240"/>
            <a:ext cx="5937120" cy="266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492000" y="274320"/>
            <a:ext cx="5194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Bahnschrift Light Condensed"/>
              </a:rPr>
              <a:t>Как мы меняемся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3634920" y="1417320"/>
            <a:ext cx="5365800" cy="46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3600" spc="-1" strike="noStrike">
                <a:solidFill>
                  <a:srgbClr val="000000"/>
                </a:solidFill>
                <a:latin typeface="Bahnschrift Light Condensed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Bahnschrift Light Condensed"/>
              </a:rPr>
              <a:t>Школьная библиотека должна превратиться в медиаинформационный центр, обладающий новейшими ресурсами, а работники школьных библиотек должны получить возможность постоянного совершенствования своего профессионального уровн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Схема 1" descr=""/>
          <p:cNvPicPr/>
          <p:nvPr/>
        </p:nvPicPr>
        <p:blipFill>
          <a:blip r:embed="rId1"/>
          <a:stretch/>
        </p:blipFill>
        <p:spPr>
          <a:xfrm>
            <a:off x="-96840" y="0"/>
            <a:ext cx="8955000" cy="666900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192040" y="189000"/>
            <a:ext cx="6985080" cy="102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Bahnschrift Light Condensed"/>
              </a:rPr>
              <a:t>Основные задачи ИБЦ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3419280" y="1212480"/>
            <a:ext cx="5724360" cy="564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ahnschrift Light Condensed"/>
              </a:rPr>
              <a:t>Обеспечить образовательный процесс учебными,  вспомогательными  документами и информационной продукцией, в том числе цифровыми образовательными ресурсами, базами данных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ahnschrift Light Condensed"/>
              </a:rPr>
              <a:t>Формировать комфортную библиотечно-информационную среду с комплексом информационных образовательных ресурсов, совокупностью технологических средств информационных и коммуникационных технологий, с системой современных педагогических и библиотечных технологий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ahnschrift Light Condensed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192040" y="189000"/>
            <a:ext cx="6985080" cy="102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Bahnschrift Light Condensed"/>
              </a:rPr>
              <a:t>Основные задачи ИБЦ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3419280" y="1212480"/>
            <a:ext cx="5724360" cy="564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Bahnschrift Light Condensed"/>
              </a:rPr>
              <a:t>Обеспечить  доступ пользователей  к информационным ресурсам Интернета, учебной и художественной литературе, коллекциям медиаресурсов на электронных носителях, к множительной технике для тиражирования учебных и методических текстографических, аудио- и видеоматериалов, результатов творческой, научно-исследовательской и проектной деятельности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Bahnschrift Light Condensed"/>
              </a:rPr>
              <a:t>Формировать информационную культуру обучающихся через организацию информационной подготовки школьников, включая обучение навыкам поиска, извлечения, критического анализа и самостоятельного использования информации для удовлетворения многообразных информационных потребностей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771280" y="404280"/>
            <a:ext cx="5915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Bahnschrift Condensed"/>
              </a:rPr>
              <a:t>Информационно-библиотечный центр - среда развития для дете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1" name="Объект 4" descr=""/>
          <p:cNvPicPr/>
          <p:nvPr/>
        </p:nvPicPr>
        <p:blipFill>
          <a:blip r:embed="rId1"/>
          <a:stretch/>
        </p:blipFill>
        <p:spPr>
          <a:xfrm>
            <a:off x="2662200" y="1998720"/>
            <a:ext cx="6134040" cy="4525920"/>
          </a:xfrm>
          <a:prstGeom prst="rect">
            <a:avLst/>
          </a:prstGeom>
          <a:ln w="0">
            <a:noFill/>
          </a:ln>
        </p:spPr>
      </p:pic>
      <p:pic>
        <p:nvPicPr>
          <p:cNvPr id="252" name="Рисунок 6" descr="Открытая книга со сплошной заливкой"/>
          <p:cNvPicPr/>
          <p:nvPr/>
        </p:nvPicPr>
        <p:blipFill>
          <a:blip r:embed="rId2"/>
          <a:stretch/>
        </p:blipFill>
        <p:spPr>
          <a:xfrm>
            <a:off x="5003640" y="3675240"/>
            <a:ext cx="1554480" cy="155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276720" y="259920"/>
            <a:ext cx="5697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Bahnschrift Condensed"/>
              </a:rPr>
              <a:t>Информационно-библиотечный центр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634920" y="1628640"/>
            <a:ext cx="5311800" cy="444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ahnschrift Condensed"/>
              </a:rPr>
              <a:t>Это ресурс, способствующий формированию у обучающихся личностных и метапредметных результатов при освоении основных образовательных программ всех уровней, где приоритетное внимание уделяется достижению умения быстро ориентироваться в информационном пространстве, развитию способности находить, анализировать, обрабатывать и преобразовывать, обобщать, сохранять и передавать информаци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843280" y="761760"/>
            <a:ext cx="5843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Bahnschrift Condensed"/>
              </a:rPr>
              <a:t>В ИБЦ должен быть обеспечен доступ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3851280" y="2356920"/>
            <a:ext cx="4680000" cy="372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Bahnschrift Condensed"/>
              </a:rPr>
              <a:t>к </a:t>
            </a:r>
            <a:r>
              <a:rPr b="0" lang="ru-RU" sz="2400" spc="-1" strike="noStrike">
                <a:solidFill>
                  <a:srgbClr val="000000"/>
                </a:solidFill>
                <a:latin typeface="Bahnschrift Condensed"/>
              </a:rPr>
              <a:t>источникам информации на любых носителях,  в том числе к печатным, мультимедийным и цифровым коллекциям, а также к множительной технике для тиражирования учебных и методических материалов, результатов творческой, научно-исследовательской и проектной деятельности обучающихся. В библиотеках должен быть  предоставлен педагогам и обучающимся доступ к федеральным электронным библиотекам</a:t>
            </a:r>
            <a:r>
              <a:rPr b="0" lang="ru-RU" sz="2800" spc="-1" strike="noStrike">
                <a:solidFill>
                  <a:srgbClr val="000000"/>
                </a:solidFill>
                <a:latin typeface="Bahnschrift Condensed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689200" y="404280"/>
            <a:ext cx="6275520" cy="14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Bahnschrift Condensed"/>
              </a:rPr>
              <a:t>Повышению качества образования способствует интеграция информационных технологий следующих типов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59280" y="1833480"/>
            <a:ext cx="5976720" cy="48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ahnschrift Condensed"/>
              </a:rPr>
              <a:t>декларативных, предусматривающих предъявление обучающимися определенной доли учебной информации (компьютерные учебники, учебные видеофильмы, технология презентаций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ahnschrift Condensed"/>
              </a:rPr>
              <a:t>— </a:t>
            </a:r>
            <a:r>
              <a:rPr b="0" lang="ru-RU" sz="2400" spc="-1" strike="noStrike">
                <a:solidFill>
                  <a:srgbClr val="000000"/>
                </a:solidFill>
                <a:latin typeface="Bahnschrift Condensed"/>
              </a:rPr>
              <a:t>сетевых, ориентированных на самостоятельный выбор последовательности изучения материала и обмена информацией на расстоянии (WWW-технология, HTML-технология, мультимедийные учебники, телеконференции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ahnschrift Condensed"/>
              </a:rPr>
              <a:t>—</a:t>
            </a:r>
            <a:r>
              <a:rPr b="0" lang="ru-RU" sz="2400" spc="-1" strike="noStrike">
                <a:solidFill>
                  <a:srgbClr val="000000"/>
                </a:solidFill>
                <a:latin typeface="Bahnschrift Condensed"/>
              </a:rPr>
              <a:t>справочно-информационных, позволяющих самостоятельно находить необходимую информацию (базы данных, справочные системы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0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916000" y="333000"/>
            <a:ext cx="5841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Bahnschrift Condensed"/>
              </a:rPr>
              <a:t>Каким должен быть педагог-библиотекарь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564000" y="2361960"/>
            <a:ext cx="4967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ahnschrift Condensed"/>
              </a:rPr>
              <a:t>Внедрение и освоение новых инновационных и информационных технологий, позволяющих открыть новые возможности школьных библиотек образовательных организаций, требуют специальной профессиональной подготовки школьных библиотекаре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555640" y="476280"/>
            <a:ext cx="6445080" cy="230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Bahnschrift Light Condensed"/>
                <a:ea typeface="Calibri"/>
              </a:rPr>
              <a:t>Актуальность         проблемы </a:t>
            </a:r>
            <a:br>
              <a:rPr sz="2400"/>
            </a:br>
            <a:br>
              <a:rPr sz="48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2484360" y="2361960"/>
            <a:ext cx="651672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lvl="3" marL="1296000" indent="-185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ahnschrift Light Condensed"/>
              </a:rPr>
              <a:t>Модернизация образования определяет, что главной задачей образовательной политики является </a:t>
            </a:r>
            <a:r>
              <a:rPr b="1" lang="ru-RU" sz="2800" spc="-1" strike="noStrike">
                <a:solidFill>
                  <a:srgbClr val="000000"/>
                </a:solidFill>
                <a:latin typeface="Bahnschrift Light Condensed"/>
              </a:rPr>
              <a:t>обеспечение современного качества образования</a:t>
            </a:r>
            <a:r>
              <a:rPr b="0" lang="ru-RU" sz="2800" spc="-1" strike="noStrike">
                <a:solidFill>
                  <a:srgbClr val="000000"/>
                </a:solidFill>
                <a:latin typeface="Bahnschrift Light Condensed"/>
              </a:rPr>
              <a:t>  на основе сохранения его фундаментальности и соответствия актуальным и перспективным потребностям личности, общества и государства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296000" indent="-185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410920" y="-214200"/>
            <a:ext cx="6440760" cy="23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ahnschrift Condensed"/>
              </a:rPr>
              <a:t>Профессиональная компетентность библиотекаря формируется из следующих </a:t>
            </a:r>
            <a:r>
              <a:rPr b="1" lang="ru-RU" sz="2800" spc="-1" strike="noStrike">
                <a:solidFill>
                  <a:srgbClr val="000000"/>
                </a:solidFill>
                <a:latin typeface="Bahnschrift Condensed"/>
              </a:rPr>
              <a:t>компонентов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3814560" y="1988640"/>
            <a:ext cx="5329080" cy="4753080"/>
          </a:xfrm>
          <a:prstGeom prst="rect">
            <a:avLst/>
          </a:prstGeom>
          <a:solidFill>
            <a:srgbClr val="ebf1de"/>
          </a:solidFill>
          <a:ln w="25560">
            <a:solidFill>
              <a:srgbClr val="9bbb59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ahnschrift Condensed"/>
              </a:rPr>
              <a:t>достаточный уровень профессионального образования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ahnschrift Condensed"/>
              </a:rPr>
              <a:t>профессиональный опыт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ahnschrift Condensed"/>
              </a:rPr>
              <a:t>наличие индивидуальных особенностей человек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ahnschrift Condensed"/>
              </a:rPr>
              <a:t>-мотивированное стремление к непрерывному самообразованию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ahnschrift Condensed"/>
              </a:rPr>
              <a:t>- творческое и ответственное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ahnschrift Condensed"/>
              </a:rPr>
              <a:t>отношение к дел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3" name="Рисунок 5" descr=""/>
          <p:cNvPicPr/>
          <p:nvPr/>
        </p:nvPicPr>
        <p:blipFill>
          <a:blip r:embed="rId1"/>
          <a:stretch/>
        </p:blipFill>
        <p:spPr>
          <a:xfrm>
            <a:off x="7554960" y="4508640"/>
            <a:ext cx="1555560" cy="219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3276360" y="1989000"/>
            <a:ext cx="5381640" cy="4191120"/>
          </a:xfrm>
          <a:prstGeom prst="rect">
            <a:avLst/>
          </a:prstGeom>
          <a:solidFill>
            <a:srgbClr val="ebf1de"/>
          </a:solidFill>
          <a:ln w="25560">
            <a:solidFill>
              <a:srgbClr val="9bbb59"/>
            </a:solidFill>
            <a:miter/>
          </a:ln>
        </p:spPr>
        <p:txBody>
          <a:bodyPr anchor="t">
            <a:normAutofit fontScale="83000"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Bahnschrift Condensed"/>
              </a:rPr>
              <a:t>Чем лучше профессиональные качества, результативнее деятельность, тем выше востребованность и значимость роли ИБЦ в повышении качества образования в целом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203640" y="188640"/>
            <a:ext cx="5726160" cy="202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ahnschrift Condensed"/>
              </a:rPr>
              <a:t>Положительным результатом в направлении повышения качества образования при внедрении и интеграции инновационных и информационных технологий в практику работы школьных ИБЦ можно считать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635280" y="2361960"/>
            <a:ext cx="5400720" cy="430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ahnschrift Condensed"/>
              </a:rPr>
              <a:t>повышение доступности общего образования, с расширением форм получения образования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ahnschrift Condensed"/>
              </a:rPr>
              <a:t>существенное расширение и совершенствование организационного обеспечения образовательной деятельности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ahnschrift Condensed"/>
              </a:rPr>
              <a:t>независимость образовательной деятельности от места и времени обучения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ahnschrift Condensed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Bahnschrift Condensed"/>
              </a:rPr>
              <a:t>совершенствование методического и программного обеспечения образовательной деятельности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ahnschrift Condensed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Bahnschrift Condensed"/>
              </a:rPr>
              <a:t>развитие технологического мышления у обучающихся, умения самостоятельно планировать свою образовательную деятельность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 txBox="1"/>
          <p:nvPr/>
        </p:nvSpPr>
        <p:spPr>
          <a:xfrm>
            <a:off x="3276360" y="333360"/>
            <a:ext cx="538164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Bahnschrift Condensed"/>
              </a:rPr>
              <a:t>Соцсети- элемент И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8" name="Picture 2" descr=""/>
          <p:cNvPicPr/>
          <p:nvPr/>
        </p:nvPicPr>
        <p:blipFill>
          <a:blip r:embed="rId1"/>
          <a:stretch/>
        </p:blipFill>
        <p:spPr>
          <a:xfrm>
            <a:off x="3780000" y="1413000"/>
            <a:ext cx="4813200" cy="345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276360" y="333360"/>
            <a:ext cx="5381640" cy="213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ahnschrift Condensed"/>
              </a:rPr>
              <a:t>Социальные сети сферы образования стали неотъемлемым я инструментом позиционирования школы и воспитательной работы в интернет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0" name="Picture 3" descr=""/>
          <p:cNvPicPr/>
          <p:nvPr/>
        </p:nvPicPr>
        <p:blipFill>
          <a:blip r:embed="rId1"/>
          <a:stretch/>
        </p:blipFill>
        <p:spPr>
          <a:xfrm>
            <a:off x="4680" y="2708280"/>
            <a:ext cx="9139320" cy="398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484000" y="274320"/>
            <a:ext cx="6202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Bahnschrift SemiLight SemiConde"/>
              </a:rPr>
              <a:t>«</a:t>
            </a:r>
            <a:r>
              <a:rPr b="0" lang="ru-RU" sz="4000" spc="-1" strike="noStrike">
                <a:solidFill>
                  <a:srgbClr val="000000"/>
                </a:solidFill>
                <a:latin typeface="Bahnschrift Condensed"/>
              </a:rPr>
              <a:t>ВКонтакте</a:t>
            </a:r>
            <a:r>
              <a:rPr b="0" lang="ru-RU" sz="4000" spc="-1" strike="noStrike">
                <a:solidFill>
                  <a:srgbClr val="000000"/>
                </a:solidFill>
                <a:latin typeface="Bahnschrift SemiLight SemiConde"/>
              </a:rPr>
              <a:t>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Прямоугольник 6"/>
          <p:cNvSpPr/>
          <p:nvPr/>
        </p:nvSpPr>
        <p:spPr>
          <a:xfrm>
            <a:off x="3276720" y="5300640"/>
            <a:ext cx="55926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ahnschrift Condensed"/>
              </a:rPr>
              <a:t>— </a:t>
            </a:r>
            <a:r>
              <a:rPr b="0" lang="ru-RU" sz="2800" spc="-1" strike="noStrike">
                <a:solidFill>
                  <a:srgbClr val="000000"/>
                </a:solidFill>
                <a:latin typeface="Bahnschrift Condensed"/>
              </a:rPr>
              <a:t>крупнейшая в России и странах СНГ социальная сеть, онлайн-платформа и приложени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3" name="Picture 5" descr=""/>
          <p:cNvPicPr/>
          <p:nvPr/>
        </p:nvPicPr>
        <p:blipFill>
          <a:blip r:embed="rId1"/>
          <a:stretch/>
        </p:blipFill>
        <p:spPr>
          <a:xfrm>
            <a:off x="3618000" y="1494000"/>
            <a:ext cx="5251320" cy="3520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484000" y="274320"/>
            <a:ext cx="6202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Bahnschrift Condensed"/>
              </a:rPr>
              <a:t>“</a:t>
            </a:r>
            <a:r>
              <a:rPr b="0" lang="ru-RU" sz="4000" spc="-1" strike="noStrike">
                <a:solidFill>
                  <a:srgbClr val="000000"/>
                </a:solidFill>
                <a:latin typeface="Bahnschrift Condensed"/>
              </a:rPr>
              <a:t>Вконтакте” предлагает…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Прямоугольник 5"/>
          <p:cNvSpPr/>
          <p:nvPr/>
        </p:nvSpPr>
        <p:spPr>
          <a:xfrm>
            <a:off x="3708360" y="4005360"/>
            <a:ext cx="5184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ahnschrift Condensed"/>
              </a:rPr>
              <a:t>…</a:t>
            </a:r>
            <a:r>
              <a:rPr b="0" lang="ru-RU" sz="2800" spc="-1" strike="noStrike">
                <a:solidFill>
                  <a:srgbClr val="000000"/>
                </a:solidFill>
                <a:latin typeface="Bahnschrift Condensed"/>
              </a:rPr>
              <a:t>сообществам различные инструменты вовлечения, которые позволяют сделать контент в сообществе более интересным для аудитори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6" name="Picture 2" descr=""/>
          <p:cNvPicPr/>
          <p:nvPr/>
        </p:nvPicPr>
        <p:blipFill>
          <a:blip r:embed="rId1"/>
          <a:srcRect l="0" t="0" r="0" b="22388"/>
          <a:stretch/>
        </p:blipFill>
        <p:spPr>
          <a:xfrm>
            <a:off x="3413160" y="1268280"/>
            <a:ext cx="5162400" cy="2602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Прямоугольник 4"/>
          <p:cNvSpPr/>
          <p:nvPr/>
        </p:nvSpPr>
        <p:spPr>
          <a:xfrm>
            <a:off x="3780000" y="1700280"/>
            <a:ext cx="5256000" cy="862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ahnschrift Condensed"/>
              </a:rPr>
              <a:t>Автономная некоммерческая организация по развитию цифровых проектов в сфере общественных связей и коммуникаций «Диалог Регионы» запустил образовательный онлайн-марафон «ПроDвижение Госпаблики: Вовлекай и побеждай», который позволит повысить качество ведения сообщества, содержит множество актуальных примеров и повысит практические навыки администраторов госпабликов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050560" y="274320"/>
            <a:ext cx="663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Bahnschrift Condensed"/>
              </a:rPr>
              <a:t>«Вовлекай и побеждай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9" name="Picture 3" descr=""/>
          <p:cNvPicPr/>
          <p:nvPr/>
        </p:nvPicPr>
        <p:blipFill>
          <a:blip r:embed="rId1"/>
          <a:stretch/>
        </p:blipFill>
        <p:spPr>
          <a:xfrm>
            <a:off x="15840" y="77760"/>
            <a:ext cx="2900520" cy="673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Picture 2" descr=""/>
          <p:cNvPicPr/>
          <p:nvPr/>
        </p:nvPicPr>
        <p:blipFill>
          <a:blip r:embed="rId1"/>
          <a:stretch/>
        </p:blipFill>
        <p:spPr>
          <a:xfrm>
            <a:off x="0" y="1484280"/>
            <a:ext cx="9171000" cy="3382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Picture 3" descr=""/>
          <p:cNvPicPr/>
          <p:nvPr/>
        </p:nvPicPr>
        <p:blipFill>
          <a:blip r:embed="rId1"/>
          <a:srcRect l="0" t="0" r="10067" b="0"/>
          <a:stretch/>
        </p:blipFill>
        <p:spPr>
          <a:xfrm>
            <a:off x="1298520" y="189000"/>
            <a:ext cx="6802560" cy="5060880"/>
          </a:xfrm>
          <a:prstGeom prst="rect">
            <a:avLst/>
          </a:prstGeom>
          <a:ln w="0">
            <a:noFill/>
          </a:ln>
        </p:spPr>
      </p:pic>
      <p:sp>
        <p:nvSpPr>
          <p:cNvPr id="282" name="Прямоугольник 1"/>
          <p:cNvSpPr/>
          <p:nvPr/>
        </p:nvSpPr>
        <p:spPr>
          <a:xfrm>
            <a:off x="0" y="5502240"/>
            <a:ext cx="9144000" cy="180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ahnschrift Condensed"/>
              </a:rPr>
              <a:t>Администраторам сообществ нужно зарегистрироваться, заполнить форму, а дальше проходить марафон в своем темпе. Всего марафон содержит 13 задани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276360" y="692280"/>
            <a:ext cx="5724360" cy="144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Bahnschrift Light Condensed"/>
                <a:ea typeface="Calibri"/>
              </a:rPr>
              <a:t>В общегосударственном плане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Bahnschrift Light Condensed"/>
                <a:ea typeface="Calibri"/>
              </a:rPr>
              <a:t>качество образования - это его соответствие современным жизненным потребностям развития страны.</a:t>
            </a:r>
            <a:br>
              <a:rPr sz="43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340000" y="2349000"/>
            <a:ext cx="68040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lvl="3" marL="1328040" indent="-18972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Bahnschrift Light Condensed"/>
              </a:rPr>
              <a:t>Советский и российский учёный-педагог, академик РАО Марк Поташник* определяет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328040" indent="-18972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Bahnschrift Light Condensed"/>
              </a:rPr>
              <a:t>«Качество образования – совокупность показателей, характеризующих эффективность деятельности образовательного учреждения, способных удовлетворить потребности самих школьников, общества, заказчиков на образование.  Качество образования, особенно качество школьного образования – это специфическая область качества вообще, так как оно чрезвычайно зависимо от конкретных людей, с которыми взаимодействует обучающийся человек, будь то первоклассник, или старшеклассник»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328040" indent="-18972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TextBox 1"/>
          <p:cNvSpPr/>
          <p:nvPr/>
        </p:nvSpPr>
        <p:spPr>
          <a:xfrm>
            <a:off x="108000" y="6488280"/>
            <a:ext cx="9036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*Основная проблематика исследований — организация внутришкольного управления, становление и развитие инновационных образовательных учреждени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3492000" y="2491920"/>
            <a:ext cx="5410440" cy="334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Спасибо за внимание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276360" y="692280"/>
            <a:ext cx="5724360" cy="151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Bahnschrift Light Condensed"/>
                <a:ea typeface="Calibri"/>
              </a:rPr>
              <a:t>Для учащихс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340000" y="2349000"/>
            <a:ext cx="68040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lvl="3" marL="1455840" indent="-207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ahnschrift Light Condensed"/>
              </a:rPr>
              <a:t>качество образования связано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Bahnschrift Light Condensed"/>
              </a:rPr>
              <a:t>с возможностями получения качественных, разносторонних знаний для поступления в ВУЗ; 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Bahnschrift Light Condensed"/>
              </a:rPr>
              <a:t>с возможностями в будущем достигнуть успехов в карьере, достигнуть цели, поставленной в жизни;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Bahnschrift Light Condensed"/>
              </a:rPr>
              <a:t>с дополнительным знанием, обучением, пониманием предметов;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Bahnschrift Light Condensed"/>
              </a:rPr>
              <a:t>с глубокими прочными знаниями по всем предмета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276360" y="692280"/>
            <a:ext cx="5724360" cy="151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Bahnschrift Light Condensed"/>
                <a:ea typeface="Calibri"/>
              </a:rPr>
              <a:t>Для родителе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2340000" y="2349000"/>
            <a:ext cx="68040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lvl="3" marL="1487880" indent="-2124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ahnschrift Light Condensed"/>
              </a:rPr>
              <a:t>с получением знаний, умений и навыков, которые позволяют выпускнику школы найти свое место в жизни, добиться уважения окружающих его людей;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Bahnschrift Light Condensed"/>
              </a:rPr>
              <a:t>со знанием предметов, с хорошим оснащением школы, с профессионализмом педагогов;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Bahnschrift Light Condensed"/>
              </a:rPr>
              <a:t>с умением учащихся применить полученные знания в жизни; с умением педагога увлечь детей своим предмето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203280" y="115560"/>
            <a:ext cx="572436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Bahnschrift Light Condensed"/>
                <a:ea typeface="Calibri"/>
              </a:rPr>
              <a:t>Для учителе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2340000" y="1196640"/>
            <a:ext cx="680400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lvl="3" marL="1311840" indent="-18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Bahnschrift Light Condensed"/>
              </a:rPr>
              <a:t>с умением подготовить школьника в ВУЗ, глубоким раскрытием наиболее интересных вопросов науки, подготовкой ученика не только умственно, но и нравственно (морально); </a:t>
            </a:r>
            <a:br>
              <a:rPr sz="2500"/>
            </a:br>
            <a:r>
              <a:rPr b="0" lang="ru-RU" sz="2500" spc="-1" strike="noStrike">
                <a:solidFill>
                  <a:srgbClr val="000000"/>
                </a:solidFill>
                <a:latin typeface="Bahnschrift Light Condensed"/>
              </a:rPr>
              <a:t>с умением ученика самостоятельно мыслить, анализировать и самостоятельно работать; </a:t>
            </a:r>
            <a:br>
              <a:rPr sz="2500"/>
            </a:br>
            <a:r>
              <a:rPr b="0" lang="ru-RU" sz="2500" spc="-1" strike="noStrike">
                <a:solidFill>
                  <a:srgbClr val="000000"/>
                </a:solidFill>
                <a:latin typeface="Bahnschrift Light Condensed"/>
              </a:rPr>
              <a:t>со школой, которая учитывает индивидуальные особенности школьника, способности и потребности детей; </a:t>
            </a:r>
            <a:br>
              <a:rPr sz="2500"/>
            </a:br>
            <a:r>
              <a:rPr b="0" lang="ru-RU" sz="2500" spc="-1" strike="noStrike">
                <a:solidFill>
                  <a:srgbClr val="000000"/>
                </a:solidFill>
                <a:latin typeface="Bahnschrift Light Condensed"/>
              </a:rPr>
              <a:t>с профессиональной позицией и самоощущением учителя, когда он четко представляет свои цели, знает как их достичь и чувствует душевный комфорт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Схема 3" descr=""/>
          <p:cNvPicPr/>
          <p:nvPr/>
        </p:nvPicPr>
        <p:blipFill>
          <a:blip r:embed="rId1"/>
          <a:stretch/>
        </p:blipFill>
        <p:spPr>
          <a:xfrm>
            <a:off x="3273480" y="1463760"/>
            <a:ext cx="5791320" cy="4771800"/>
          </a:xfrm>
          <a:prstGeom prst="rect">
            <a:avLst/>
          </a:prstGeom>
          <a:ln w="0">
            <a:noFill/>
          </a:ln>
        </p:spPr>
      </p:pic>
      <p:sp>
        <p:nvSpPr>
          <p:cNvPr id="236" name="TextBox 4"/>
          <p:cNvSpPr/>
          <p:nvPr/>
        </p:nvSpPr>
        <p:spPr>
          <a:xfrm>
            <a:off x="3059280" y="549360"/>
            <a:ext cx="5929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Bahnschrift Light Condensed"/>
              </a:rPr>
              <a:t>Развитие качества образован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780000" y="333000"/>
            <a:ext cx="5184720" cy="583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2060"/>
                </a:solidFill>
                <a:latin typeface="Bahnschrift Light Condensed"/>
                <a:ea typeface="Calibri"/>
              </a:rPr>
              <a:t>Соответствие знаний обучающихся Государственным стандартам, успешная работа общеобразовательной организации, деятельность каждого педагога – это и есть сегодня понимание качества образования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843280" y="-360"/>
            <a:ext cx="63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Bahnschrift Light Condensed"/>
                <a:ea typeface="Calibri"/>
              </a:rPr>
              <a:t>Факторы, влияющие на качество знаний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9" name="Схема 2" descr=""/>
          <p:cNvPicPr/>
          <p:nvPr/>
        </p:nvPicPr>
        <p:blipFill>
          <a:blip r:embed="rId1"/>
          <a:stretch/>
        </p:blipFill>
        <p:spPr>
          <a:xfrm>
            <a:off x="3103560" y="981000"/>
            <a:ext cx="6070680" cy="4608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30T11:29:00Z</dcterms:created>
  <dc:creator>Админ</dc:creator>
  <dc:description/>
  <dc:language>en-US</dc:language>
  <cp:lastModifiedBy>Точка Роста</cp:lastModifiedBy>
  <dcterms:modified xsi:type="dcterms:W3CDTF">2024-08-28T04:16:12Z</dcterms:modified>
  <cp:revision>63</cp:revision>
  <dc:subject/>
  <dc:title>Роль и место  школьной библиотеки  в реализации  образовательных стандартов нового поколения</dc:title>
</cp:coreProperties>
</file>